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890-9E6C-477A-A56C-06404EA6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C18-42EC-4D65-8AFB-88502A79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315-6075-4A1A-9188-F4B76AD3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BE1-00EC-4BA8-A8E1-1D357AC3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F1685-C39F-4524-AE0E-4707DB82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08EDF-20D0-44A8-8805-D69EF0EF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5C893-C50B-4462-89A8-7280AB90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2E777-06E8-460E-8F10-CA5F541B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78F95-4850-4520-A1A5-84C76298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3FE9C-2EC4-4A05-9257-27D27DB1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E8E4C-561E-40FF-B029-725AA4C3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49F-6D61-462F-BDFB-15841AA9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DF70B-A4E8-4F8A-8260-A35DFD2C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5FF37-DABD-47EF-A250-AB02F28A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F8070-9647-4692-B460-7EE51C4B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9EE40-5901-4675-81C1-324CEE2F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9DAEE-40D6-4CF4-8489-3473B45B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CC82B-726B-482B-9D1E-3A90E1DF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A8EE3-553A-4492-A8FC-A525BAE3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1045A-6AD5-484D-846C-BCE8A135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CB793-2FA0-418C-B479-44C717AE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ABDF1-F353-4911-AF05-083ED542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1BC-4515-4929-9939-2F8AE2E7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69F40-A540-4AD7-8124-EC026440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93A97-F4D2-4B48-829B-0D0C7CB8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1288A-D24B-42DC-BEAF-EBFE3FD2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90E63-A0C0-4948-A0B0-0352FEC2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5D765-199F-4FAB-B941-6FFB6E07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C8B23-93CF-4485-B44D-DDA66211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9C198-FDDC-49D8-9C6E-C26D41ED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C29D2B-935B-42FE-B7C5-DBE23B1B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ED7FB1-71DB-472C-B182-5D435D44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CB34D9-B368-4906-B284-D0BE9111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55C-F713-442D-9F87-54DEC2D4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3A8A2F-78A5-4FF0-AD60-8052F981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06C4D8-69E0-4A37-B961-A84C63C8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ABB590-E7A0-414A-B3AE-6AE939A0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2B8639-5CD6-449A-817D-696BAD64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004AB1-A6FD-4B23-BE9F-4788DCB5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8B9001-3310-4132-96A2-4591A43A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758218-E580-4CB8-A581-7ACBA74C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DD3786-86DE-472C-899A-F5D5F63B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C357E3-D008-454A-BD57-B92C49FA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9E54F7-9BE8-440E-B87D-86F50D67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646C-378B-4CAD-8EA0-DF645D7B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F79CEA-6F7D-4D12-BCC5-8FCB8ABA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8DF79F-302D-4829-803D-D54537ED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CC4D53-DA04-47BA-A775-9BE23B57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462271-E056-4B18-B1CE-24C58628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75F7B9-FCEA-4976-9AC7-1513768E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44165A-4644-4DB7-828F-8E586965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AC970C-655F-43A0-A297-BF1C3E02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02CE8-14A3-48E5-BC1A-BEDFB043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5C4F1A-94A2-4152-9F49-24760D95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28C566-DA52-4C7C-B6EC-2F286B8D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C1E-242B-426C-A604-EBCA53E8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277E9B-A83C-4B0B-A618-EF984092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1E4BE0-E5CF-4B66-94B4-874010AE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60CC5-8ED8-4DF2-9787-B710B9F6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0EB496-1138-4D65-8628-0B0EEA7B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04BADB-E038-4A15-A758-E160C904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4C66AC-FCA2-4E58-85B4-733C27CD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0FFBB5-BFD9-440C-AAA8-8C4AFF8D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2F8A5-5EB2-438B-B9C1-6FBE3F3A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AC9737-0782-4FDA-9AAA-D136DEF0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77BA4E-BB8C-4664-9679-A1FEDB7C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424-2D46-4153-8EC8-AAFB31F8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DC14C3-036F-43F9-B5CD-714C0E97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025334-C1B7-4AD5-9D97-5BDCE36E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C0434-00F2-47E1-AAE5-569D51FD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BD59-A04D-4A20-8C87-8791739B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E67-72F6-46B7-A123-6863AE81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0268-C79F-4134-9771-87706973DB13}" type="slidenum">
              <a:rPr b="0" lang="en-US" sz="1600" spc="-1" strike="noStrike">
                <a:solidFill>
                  <a:srgbClr val="0070c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8eb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8eb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7598d9"/>
          </a:solidFill>
          <a:ln w="38160">
            <a:solidFill>
              <a:srgbClr val="7598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DFC9-8D12-4BB6-B32B-7B6F26D99C9C}" type="slidenum">
              <a:rPr b="0" lang="en-US" sz="1600" spc="-1" strike="noStrike">
                <a:solidFill>
                  <a:srgbClr val="0070c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CDEE-29E7-412D-8608-990FCBB534A2}" type="slidenum">
              <a:rPr b="0" lang="en-US" sz="1600" spc="-1" strike="noStrike">
                <a:solidFill>
                  <a:srgbClr val="0070c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8eb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8eb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AA5F-0B3A-449D-81CF-E52D5F56C1F1}" type="slidenum">
              <a:rPr b="0" lang="en-US" sz="1600" spc="-1" strike="noStrike">
                <a:solidFill>
                  <a:srgbClr val="0070c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1CE4-E39A-4A42-884B-E22F306F3316}" type="slidenum">
              <a:rPr b="0" lang="en-US" sz="1600" spc="-1" strike="noStrike">
                <a:solidFill>
                  <a:srgbClr val="0070c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493E-4CC7-4074-BF21-D2CE44B825B7}" type="slidenum">
              <a:rPr b="0" lang="en-US" sz="1600" spc="-1" strike="noStrike">
                <a:solidFill>
                  <a:srgbClr val="0070c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-6480" y="19080"/>
            <a:ext cx="7785360" cy="1913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http://24.media.tumblr.com/TEJYCTqKIp2sl7kmOEnUhwppo1_400.jpg"/>
          <p:cNvPicPr/>
          <p:nvPr/>
        </p:nvPicPr>
        <p:blipFill>
          <a:blip r:embed="rId2"/>
          <a:stretch/>
        </p:blipFill>
        <p:spPr>
          <a:xfrm>
            <a:off x="2971800" y="2133720"/>
            <a:ext cx="2590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orn 1926 in small Southern tow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Real name is Nelle Harper Le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till alive today though very privat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inished TKAM in 1957 right before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 peak of the civil rights movement (published in 1960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Won the Pulitzer Prize in 196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Title 2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8607600" cy="1231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http://trsullivan.mlblogs.com/harper-lee.jpg"/>
          <p:cNvPicPr/>
          <p:nvPr/>
        </p:nvPicPr>
        <p:blipFill>
          <a:blip r:embed="rId2"/>
          <a:stretch/>
        </p:blipFill>
        <p:spPr>
          <a:xfrm>
            <a:off x="5867280" y="380880"/>
            <a:ext cx="2571840" cy="3229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ctional town of Maycomb, Alabam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mall, southern town where racism present</a:t>
            </a:r>
            <a:endParaRPr b="0" lang="en-US" sz="2400" spc="-1" strike="noStrike">
              <a:solidFill>
                <a:srgbClr val="0070c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933-1935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ased on Harper Lee’s home town of Monroeville, Alabam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Title 2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8607600" cy="1231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http://www.tokillamockingbird.com/courtroom112006av1.jpg"/>
          <p:cNvPicPr/>
          <p:nvPr/>
        </p:nvPicPr>
        <p:blipFill>
          <a:blip r:embed="rId2"/>
          <a:stretch/>
        </p:blipFill>
        <p:spPr>
          <a:xfrm>
            <a:off x="3048120" y="373392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ral courag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cial inequality/prejudi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od vs. evi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rowing u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mall town southern lif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iendshi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acrifi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ymbol of the mockingbir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Title 2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8607600" cy="1231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http://www.tpwd.state.tx.us/kids/about_texas/images/mockingbird_big.gif"/>
          <p:cNvPicPr/>
          <p:nvPr/>
        </p:nvPicPr>
        <p:blipFill>
          <a:blip r:embed="rId2"/>
          <a:stretch/>
        </p:blipFill>
        <p:spPr>
          <a:xfrm>
            <a:off x="5715000" y="1676520"/>
            <a:ext cx="224460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cout Finch: narrat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594720" indent="-253440">
              <a:spcBef>
                <a:spcPts val="300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elling the story as an adult looking back on these two years of her childhood</a:t>
            </a:r>
            <a:endParaRPr b="0" lang="en-US" sz="2400" spc="-1" strike="noStrike">
              <a:solidFill>
                <a:srgbClr val="0070c0"/>
              </a:solidFill>
              <a:latin typeface="Constantia"/>
            </a:endParaRPr>
          </a:p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em Finch: Scout’s older broth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tticus Finch: their father who is a lawy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oo Radley: the town recluse who fascinates the kid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ll: Jem and Scout’s adventurous frien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lpurnia: the Finch’s black maid and cook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4" name="Title 2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86076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 the children in the story grow up during two years they are exposed to many “evil” aspects of life and must deal with and try to understand those evil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children seem to be on a quest to bring Boo Radley out of hiding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Title 2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8607600" cy="1231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http://www.varley.net/Pages/images/Favorite%20Movies/To%20Kill%20a%20Mockingbird.jpg"/>
          <p:cNvPicPr/>
          <p:nvPr/>
        </p:nvPicPr>
        <p:blipFill>
          <a:blip r:embed="rId2"/>
          <a:stretch/>
        </p:blipFill>
        <p:spPr>
          <a:xfrm>
            <a:off x="4114800" y="3809880"/>
            <a:ext cx="27432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8:29:58Z</dcterms:created>
  <dc:creator>Sara Klopp</dc:creator>
  <dc:description/>
  <dc:language>en-US</dc:language>
  <cp:lastModifiedBy>Sara Klopp</cp:lastModifiedBy>
  <dcterms:modified xsi:type="dcterms:W3CDTF">2010-04-07T20:20:40Z</dcterms:modified>
  <cp:revision>32</cp:revision>
  <dc:subject/>
  <dc:title>To Kill a Mockingbird  by Harper Lee</dc:title>
</cp:coreProperties>
</file>